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CB5D-98A4-4A53-BC1C-097DAD6D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CD2-0B0D-4404-83D2-B5D12617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C543-5565-49CA-A5B3-BC8A0001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205-6CC3-4ED3-B95E-6E0DE739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991-E6C4-46D6-8722-81E5A373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3A0A-8C3A-46BA-A0DA-0714D68F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479-78DE-4B70-81A6-735E886A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0E52-D8D4-49E0-A8A2-21726951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21D-9A3E-4697-8113-4C5F6F63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B93-E3E3-42F2-B4C8-9FBBB2A3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88A-9D9B-460B-9539-BD47A41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079-9F83-444A-8C0F-1885DE5F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6DA7-C170-4807-8EF9-28D9E9A55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ry l’escar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8b4afbc7836caa7_gary-from-spongebob-squarepants"/>
          <p:cNvPicPr/>
          <p:nvPr/>
        </p:nvPicPr>
        <p:blipFill>
          <a:blip r:embed="rId1"/>
          <a:stretch/>
        </p:blipFill>
        <p:spPr>
          <a:xfrm>
            <a:off x="2819520" y="2286000"/>
            <a:ext cx="3409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e de Gary l’escarg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ry se réveille dans un ana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res lever, Gary mange de la nourriture escarg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ary va pour une promenade avec Spongebob.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2514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6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ine de Gary dans apres-mid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prendre un d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s un douche, Spongbob a laver un coquille de G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is, Gary a laver les 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4038480"/>
            <a:ext cx="3504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olon et Clarine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si, dans apres midi, Gary joue son viol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1924200" cy="1647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609480" y="276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is, Gary joue son clarinette avec Squidward dans son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97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n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nuit, Spongebob et Gary aller a le Crab Croustillant pour le di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nt le quitter ils ananas, Gary se peigner Spongeb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sont besoin de se depcher pour leur reserv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95480" y="4800600"/>
            <a:ext cx="27432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6b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s n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arrive a part de le diner a Crab Croustil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te le suit, Gary laver la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es laver le figure, Gary laver les 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in, Gary se cou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2f5e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11:08Z</dcterms:created>
  <dc:creator>licencetho</dc:creator>
  <dc:description/>
  <dc:language>en-US</dc:language>
  <cp:lastModifiedBy>licencetho</cp:lastModifiedBy>
  <dcterms:modified xsi:type="dcterms:W3CDTF">2012-03-14T14:05:49Z</dcterms:modified>
  <cp:revision>8</cp:revision>
  <dc:subject/>
  <dc:title>Gary l’escargot</dc:title>
</cp:coreProperties>
</file>